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880-3CB1-40CE-AF05-44984CAE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755-38FC-42AF-AD70-FA8ACCE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FE1-BCEA-464A-81A2-B716F905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DDA-8C63-4EA9-918E-3F4092C5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880-71A0-4FD6-A4A5-409F9D24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3C4-7DB0-4FAC-A9D4-FF7C4CF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1D8-1903-4A52-996E-867380C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93A-F5F2-4309-9612-A9E4975E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9D0-3925-4A3C-B23F-542E59EE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BDE-38F6-420A-AF13-DEE37C0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163-9199-49CE-8E9D-D5654EE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102-49C0-478E-8795-6DB68738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BF1-2C1E-44E0-A707-F3C0CB6C69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D17-57A7-4F42-9A35-3A749883A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743200" cy="671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8"/>
          <p:cNvGrpSpPr/>
          <p:nvPr/>
        </p:nvGrpSpPr>
        <p:grpSpPr>
          <a:xfrm>
            <a:off x="2727360" y="6019920"/>
            <a:ext cx="3978360" cy="731880"/>
            <a:chOff x="2727360" y="6019920"/>
            <a:chExt cx="3978360" cy="731880"/>
          </a:xfrm>
        </p:grpSpPr>
        <p:pic>
          <p:nvPicPr>
            <p:cNvPr id="43" name="Picture 2" descr="C:\Users\odhiamba\Documents\1.Templates\Logo\Short-GEF logo colored NOTAG transparent.png"/>
            <p:cNvPicPr/>
            <p:nvPr/>
          </p:nvPicPr>
          <p:blipFill>
            <a:blip r:embed="rId3"/>
            <a:stretch/>
          </p:blipFill>
          <p:spPr>
            <a:xfrm>
              <a:off x="2727360" y="6019920"/>
              <a:ext cx="62568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C:\Users\odhiamba\Documents\1.Templates\Logo\UNEPBlue logo.jpg"/>
            <p:cNvPicPr/>
            <p:nvPr/>
          </p:nvPicPr>
          <p:blipFill>
            <a:blip r:embed="rId4"/>
            <a:stretch/>
          </p:blipFill>
          <p:spPr>
            <a:xfrm>
              <a:off x="3508560" y="6019920"/>
              <a:ext cx="6822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C:\Users\odhiamba\Documents\1.Templates\Logo\Logo_UNIDO.svg.png"/>
            <p:cNvPicPr/>
            <p:nvPr/>
          </p:nvPicPr>
          <p:blipFill>
            <a:blip r:embed="rId5"/>
            <a:stretch/>
          </p:blipFill>
          <p:spPr>
            <a:xfrm>
              <a:off x="4434480" y="6019920"/>
              <a:ext cx="827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C:\Users\odhiamba\Documents\1.Templates\Logo\UNWTO Logo.jpg"/>
            <p:cNvPicPr/>
            <p:nvPr/>
          </p:nvPicPr>
          <p:blipFill>
            <a:blip r:embed="rId6"/>
            <a:stretch/>
          </p:blipFill>
          <p:spPr>
            <a:xfrm>
              <a:off x="5349240" y="6019920"/>
              <a:ext cx="1356480" cy="73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L.Bernaudat@unido.org" TargetMode="External"/><Relationship Id="rId2" Type="http://schemas.openxmlformats.org/officeDocument/2006/relationships/hyperlink" Target="mailto:M.Pinto-Rodrigues@unido.org" TargetMode="External"/><Relationship Id="rId3" Type="http://schemas.openxmlformats.org/officeDocument/2006/relationships/hyperlink" Target="mailto:H.Garcia@unido.org" TargetMode="External"/><Relationship Id="rId4" Type="http://schemas.openxmlformats.org/officeDocument/2006/relationships/hyperlink" Target="mailto:Y.Cachu@unido.org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TEERING COMMITTEE MEETING</a:t>
            </a:r>
            <a:br>
              <a:rPr sz="24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Bagamoyo, Tanzania </a:t>
            </a:r>
            <a:br>
              <a:rPr sz="1800"/>
            </a:br>
            <a:r>
              <a:rPr b="1" lang="de-AT" sz="1800" spc="-1" strike="noStrike">
                <a:solidFill>
                  <a:srgbClr val="009900"/>
                </a:solidFill>
                <a:latin typeface="Arial"/>
                <a:ea typeface="Arial"/>
              </a:rPr>
              <a:t>24-27 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  <a:ea typeface="Arial"/>
              </a:rPr>
              <a:t>September, 2013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</a:t>
            </a:r>
            <a:br>
              <a:rPr sz="2800"/>
            </a:br>
            <a:r>
              <a:rPr b="1" lang="en-GB" sz="2800" spc="-1" strike="noStrike">
                <a:solidFill>
                  <a:srgbClr val="009900"/>
                </a:solidFill>
                <a:latin typeface="Arial"/>
                <a:ea typeface="Arial"/>
              </a:rPr>
              <a:t>UNIDO TEST Methodology Implementation</a:t>
            </a: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OVERVIEW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33cc"/>
                </a:solidFill>
                <a:latin typeface="Arial"/>
                <a:ea typeface="Arial"/>
              </a:rPr>
              <a:t>FOR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Kenya, Mozambique, Senegal, Tanzania</a:t>
            </a:r>
            <a:br>
              <a:rPr sz="1600"/>
            </a:b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SCM Day 2: 25 September 2013)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0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Content Placeholder 3" descr="COAST Logframe 2012.jpg"/>
          <p:cNvPicPr/>
          <p:nvPr/>
        </p:nvPicPr>
        <p:blipFill>
          <a:blip r:embed="rId1"/>
          <a:stretch/>
        </p:blipFill>
        <p:spPr>
          <a:xfrm>
            <a:off x="914400" y="152280"/>
            <a:ext cx="6730920" cy="6629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ffff"/>
            </a:outerShdw>
          </a:effectLst>
        </p:spPr>
      </p:pic>
      <p:sp>
        <p:nvSpPr>
          <p:cNvPr id="88" name="Oval 4"/>
          <p:cNvSpPr/>
          <p:nvPr/>
        </p:nvSpPr>
        <p:spPr>
          <a:xfrm>
            <a:off x="3048120" y="2666880"/>
            <a:ext cx="2438280" cy="28958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09480" y="2209680"/>
            <a:ext cx="8275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Watamu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Ke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Inhambane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Moz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   </a:t>
            </a: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aly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Sen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Bagamoyo, </a:t>
            </a:r>
            <a:r>
              <a:rPr b="1" lang="de-AT" sz="2400" spc="-1" strike="noStrike">
                <a:solidFill>
                  <a:srgbClr val="009900"/>
                </a:solidFill>
                <a:latin typeface="Arial"/>
                <a:ea typeface="Arial"/>
              </a:rPr>
              <a:t>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8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990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COAST Project </a:t>
            </a:r>
            <a:br>
              <a:rPr sz="2400"/>
            </a:br>
            <a:r>
              <a:rPr b="1" lang="de-AT" sz="2400" spc="-1" strike="noStrike">
                <a:solidFill>
                  <a:srgbClr val="0033cc"/>
                </a:solidFill>
                <a:latin typeface="Arial"/>
                <a:ea typeface="Arial"/>
              </a:rPr>
              <a:t>EMS Thematic Component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1676520"/>
            <a:ext cx="85042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MS Thematic Area applies the UNIDO Transf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Environmentally Sound Technology (TEST) Methodolog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ST training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d across the EMS countries i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ovember/December 201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hotel sector, DPC and 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The TEST Methodology was developed by UNIDO in the year 2000 and has since been successfully applied to developing and transition economy countries all around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med at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mproving Environmental Management and Competitiven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companies &amp; industries in developing and transition econo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10960" y="990720"/>
            <a:ext cx="87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Overview 5 TEST Management Tools being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04920" y="1447920"/>
            <a:ext cx="861048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EST consists in introduc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5 Management Tools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at company/industry level with th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Arial"/>
              </a:rPr>
              <a:t>aim to change the management practices in a holistic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manner in orde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o ensure the sustainable introduction of green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 CP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eaner Production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EMA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 EM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 ES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vironmentally Sou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 CSR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480" y="1600200"/>
            <a:ext cx="8275680" cy="16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0960" y="990720"/>
            <a:ext cx="872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Overview of application of 5 TEST Management Tools across the 4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04920" y="1828800"/>
            <a:ext cx="8610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920" y="1731960"/>
          <a:ext cx="8616960" cy="4135320"/>
        </p:xfrm>
        <a:graphic>
          <a:graphicData uri="http://schemas.openxmlformats.org/drawingml/2006/table">
            <a:tbl>
              <a:tblPr/>
              <a:tblGrid>
                <a:gridCol w="1447560"/>
                <a:gridCol w="914400"/>
                <a:gridCol w="1447920"/>
                <a:gridCol w="1295280"/>
                <a:gridCol w="1143000"/>
                <a:gridCol w="2368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ST T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ZAMB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NZ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1</a:t>
                      </a:r>
                      <a:r>
                        <a:rPr b="0" lang="de-AT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C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vidual Exp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Cost  and Low Cost“ recommend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3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systems of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5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roved internal and external CS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2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 expe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uction of was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09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AT" sz="16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</a:rPr>
                        <a:t>Tool 4.</a:t>
                      </a:r>
                      <a:r>
                        <a:rPr b="1" lang="de-AT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/ Private-Public Partnersh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AT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and community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106668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Example from Brazil to demonstrate how we expect results to be portrayed at the end of the TEST implementation in 2014</a:t>
            </a:r>
            <a:br>
              <a:rPr sz="20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opical Hotel Tambau, Joao Pessoa, Paraiba</a:t>
            </a:r>
            <a:br>
              <a:rPr sz="1800"/>
            </a:b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3 guest rooms, convention center, meeting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2438280"/>
          <a:ext cx="8763120" cy="4343400"/>
        </p:xfrm>
        <a:graphic>
          <a:graphicData uri="http://schemas.openxmlformats.org/drawingml/2006/table">
            <a:tbl>
              <a:tblPr/>
              <a:tblGrid>
                <a:gridCol w="1849680"/>
                <a:gridCol w="1606320"/>
                <a:gridCol w="1463760"/>
                <a:gridCol w="1460520"/>
                <a:gridCol w="23828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 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r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D/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back Peri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al 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materials, energ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it/ye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water flow reducers in the shower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0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low-flow water tap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2,0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5,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6 m3 water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6eb"/>
                    </a:solidFill>
                  </a:tcPr>
                </a:tc>
              </a:tr>
              <a:tr h="13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lation of energy saving devices in the roo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4,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,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72 kWh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he entire hotel electricity consumption per year is 2.052.280 k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cd4"/>
                    </a:solidFill>
                  </a:tcPr>
                </a:tc>
              </a:tr>
            </a:tbl>
          </a:graphicData>
        </a:graphic>
      </p:graphicFrame>
    </p:spTree>
  </p:cSld>
  <p:transition spd="slow" advTm="10000">
    <p:pull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80880" y="1905120"/>
            <a:ext cx="85042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Financial Saving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benefits: Contributes to lower pollutions and to saving water, waste, energy and non renewable resour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A tool to assist managers to be more strategic in planning and operation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control costs and manage risks through the identification of liabilities and weaknes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wer utility costs by assessing the cost savings by BAP/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ment in the image of the Hotel and its competi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 in Staff Mor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s for the local commun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Keep ahead of impending legislations and other regulations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914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mmary  on BENEFITs 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o implementing TEST in the Hotel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828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ubtitle 4"/>
          <p:cNvSpPr/>
          <p:nvPr/>
        </p:nvSpPr>
        <p:spPr>
          <a:xfrm>
            <a:off x="324000" y="2362320"/>
            <a:ext cx="835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IDO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ct TEST TRAINING TEA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Ludovic Bernau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L.Bernaudat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Marla McCarroll Pinto Rodri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M.Pinto-Rodrigues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r. Harvey G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.Garcia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  <a:ea typeface="Arial"/>
              </a:rPr>
              <a:t>Ms. Yolanda Cachú (EMA expe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Y.Cachu@unido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1676520" y="1981080"/>
            <a:ext cx="2743200" cy="6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2:45:04Z</dcterms:created>
  <dc:creator>Gibbon 2011</dc:creator>
  <dc:description/>
  <dc:language>en-US</dc:language>
  <cp:lastModifiedBy>User</cp:lastModifiedBy>
  <dcterms:modified xsi:type="dcterms:W3CDTF">2013-09-23T12:43:25Z</dcterms:modified>
  <cp:revision>512</cp:revision>
  <dc:subject/>
  <dc:title>Slide 1</dc:title>
</cp:coreProperties>
</file>